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8FD-F93C-45C5-8B81-5A73A6F6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8D8-0285-4AD1-B76E-C42CBB5F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8BE-EDFF-4553-822D-6280C9C9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BD6-BDD0-4545-8C6D-A3165BC2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E79-BD67-483A-A9FE-342984F1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FC2-583E-4937-B2A2-A01AF178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D11-D2D5-40F2-A635-19AF5B1D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20A-10D6-410F-8CB6-E5D16804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125-B765-4B8E-A65E-F033F4D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F02-91DD-423E-969A-AC7CEFBD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0A2-DCA2-45A8-9FF8-D0E72AD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4F0-E1EB-4374-99DA-8360C447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F547-ECE5-4C2A-898B-E6EEA98771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λθον αὐτῳ οἱ μαθηται λεγοντες∙ Ἐρημος ἐστιν ὁ τοπος και ἡ ὡρα ἠδη παρηλθεν∙ ἀπολυσον τους ὀχ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φωνη ἐγενετο ἐκ των οὐρανων∙ Συ εἶ ὁ υἱος μου ὁ ἀγαπη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τε εἰσηλθεν εἰς οἰκον ἀπο του ὀχλου, εὑρον αὐτον οἱ μαθηται αὐτου και εἰπον αὐτῳ περι της παραβο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ηρυξα γαρ ὑμιν ὃ και παρελαβον, ὁτι Χριστος ἀπεθανεν ὑπερ των ἁμαρτιων ἡμων κατα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γαρ δια νομου ἀπεθανον νομῳ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οὐν τῳ ἀποστολῳ∙ Μη γινου παντοτε τυφλος ἐν τῃ καρδιᾳ σου ἀλλα πισ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 ἠν, κσι ὁ κοσμος δι’ αὐτου ἐγενετο, και ὁ κοσμος αὐτον οὐκ ἐγν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ε δικαιε, και ὁ κοσμος σε οὐκ ἐγνω, ἐγω δε σε ἐγνων, και οὑτοι ἐγνωσαν ὁτι συ με ἀπεστειλ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went up into the boat with them and they fl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is he went down to Galilee, and Mary and his brothers and his disciples, and they remained there for not many day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hold, the son of man will send his angel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t word which I spoke will judge him on the day of the Lor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216080"/>
            <a:ext cx="894384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ὑτη δε ἐστιν ἡ αἰωνιος ζωη, γινωσκειν σε τον μονον ἀληθινον θεον και ὁν ἀπεστειλας Ἰησου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λλον ἀπεστειλεν∙ κἀκεινον ἀπεκτειναν, και πολλους ἀλλους, οὑς μεν διωκοντες, οὑς δε ἀποκτεινον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Οὐκ γινωσκετε την παραβολην ταυτην, και πως ἀλλας τας παραβολας γων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αλιν ἠνεγκαν το τεκνον μετα του δαιμονιου προς αὐτον. και εὐθυς πεσων ἐπι της γης ἐκραζ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ου ὁ σπειρων σπειρει ἐπι την γην∙ και ἐγενετο ὃ μεν ἐπεσεν παρα την ὁδον, και ἀλλο ἐπεσεν εἰς την γην την καλην, και εὐθυς ἀνεβη καλως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το οὐν το βιβλιον πολλοι ἀνεγνωσαν ὁτι ἐπεγνωσαν την ἀληθ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ῳ ὁτι Σοι λεγω, ἐγειρε ἀρον αὐτο και ὑπαγε εἰς τον οἰκο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οἱ ὑπηπεται καταλιποντες τα προβατα ἐφυγον ἀπαγγελλοντες ἁ εἰδον και ἀλλοι ἀνεβησαν ἰδ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disciples of John came and took away the dead ma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ving received (him) they killed him and cast him outside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coming into the house, he said, ‘Rejoice! We will eat with one another now’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happened that a sheep fled. Therefore the son left the others and found it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28760" y="1428840"/>
            <a:ext cx="8429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elation 1.1-19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κάλυψ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evela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ησοῦ Χριστοῦ ἣν ἔδωκ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ga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ῷ ὁ θεὸς δεῖξ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sh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ῖς δούλοις αὐτοῦ ἃ δεῖ γενέσθαι ἐν τάχ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ὶ ἐσήμαν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show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στείλας διὰ τοῦ ἀγγέλου αὐτοῦ τῷ δούλῳ αὐτοῦ Ἰωνάννῃ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ς ἐμαρτύρησεν τὸν λόγον τοῦ θεοῦ καὶ τὴν μαρτρίαν Ἰησοῦ Χριστοῦ ὅσα εἶδ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ακάριος ὁ ἀναγινώσκων καὶ οἱ ἀκούοντες τοὺς λόγους τῆς προφτ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τηροῦντες τὰ ἐν αὐτῇ γεγραμμέ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ving been writt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ὁ γὰρ καιρὸς ἐγγύς.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ὼ Ἰωάννης, ὁ ἀδελφὸς ὑμῶν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ενόμην ἐν πνεύματ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irit in the dat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ῇ κυριακῇ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ord’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μέρᾳ καὶ ἤκουσα ὀπίσω μου φωνὴν μεγάλην ὡς σάλιπιγγ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umpet in the gen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642960" y="157176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11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ούση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Ὃ βλέπεις γράψον εἰς βιβλίον καὶ πέμψον ταῖς ἑπτὰ ἐκκλησίας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πέστρεψ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ρεφ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tur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έπειν τὴν φωνὴν ἥτ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ἥ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άλει μετ’ ἐμοῦ, καὶ ἐπιστρέψας εἶδον ἑπτὰ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seven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χν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pst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ρυσ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l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ὅτε εἶδον αὐτόν, ἔπεσα πρὸς τοὺς πόδ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e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ὡς νεκρός, καὶ ἔθηκ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ὴν δεξι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igh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ἐπ’ ἐμὲ λέγων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γράψον οὖν ἃ εἶδες καὶ ἃ εἰσὶν καὶ ἃ μέλλει γενέσθαι μετὰ ταῦ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03:54Z</dcterms:created>
  <dc:creator>Sarah</dc:creator>
  <dc:description/>
  <dc:language>en-US</dc:language>
  <cp:lastModifiedBy>Sarah</cp:lastModifiedBy>
  <dcterms:modified xsi:type="dcterms:W3CDTF">2009-03-02T17:11:18Z</dcterms:modified>
  <cp:revision>56</cp:revision>
  <dc:subject/>
  <dc:title>Slide 1</dc:title>
</cp:coreProperties>
</file>